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F17-4792-4759-AD4B-D78F15BD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40D-C380-4555-8D41-59D2EF96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2DC-4261-4E96-A59E-397C6D1A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EB2-1AB7-45D0-9A0A-BAF1482A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2E2-571A-4934-82D3-1B5095A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0C5-3DFE-48B8-8797-7F8AB73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091-7CB8-4DB3-800B-54EE309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D41-0FB5-4C09-AAFD-9EF0F94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56F-02B0-4E7D-9FDC-5CE74F4A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986-69DF-4380-8D41-3A6D095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7AB-30ED-4DFC-954B-CE09938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E95-21BE-4CA0-856D-0261CEA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2E5-0BC4-4826-B999-FD858DC2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6920" y="42670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2993760" y="3828960"/>
            <a:ext cx="41580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943600"/>
            <a:ext cx="4062240" cy="276120"/>
          </a:xfrm>
          <a:custGeom>
            <a:avLst/>
            <a:gdLst/>
            <a:ahLst/>
            <a:rect l="l" t="t" r="r" b="b"/>
            <a:pathLst>
              <a:path w="2544" h="144">
                <a:moveTo>
                  <a:pt x="0" y="144"/>
                </a:moveTo>
                <a:lnTo>
                  <a:pt x="2544" y="144"/>
                </a:lnTo>
                <a:lnTo>
                  <a:pt x="25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72320" y="5908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48120" y="4267080"/>
            <a:ext cx="1857600" cy="1638360"/>
          </a:xfrm>
          <a:custGeom>
            <a:avLst/>
            <a:gdLst/>
            <a:ahLst/>
            <a:rect l="l" t="t" r="r" b="b"/>
            <a:pathLst>
              <a:path w="1152" h="624">
                <a:moveTo>
                  <a:pt x="0" y="0"/>
                </a:moveTo>
                <a:lnTo>
                  <a:pt x="0" y="624"/>
                </a:lnTo>
                <a:lnTo>
                  <a:pt x="1152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1266840"/>
            <a:ext cx="3151080" cy="4676760"/>
          </a:xfrm>
          <a:custGeom>
            <a:avLst/>
            <a:gdLst/>
            <a:ahLst/>
            <a:rect l="l" t="t" r="r" b="b"/>
            <a:pathLst>
              <a:path w="2016" h="2928">
                <a:moveTo>
                  <a:pt x="0" y="0"/>
                </a:moveTo>
                <a:lnTo>
                  <a:pt x="2016" y="0"/>
                </a:lnTo>
                <a:lnTo>
                  <a:pt x="2016" y="29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62280" y="4275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1371600"/>
            <a:ext cx="2009880" cy="4572000"/>
          </a:xfrm>
          <a:custGeom>
            <a:avLst/>
            <a:gdLst/>
            <a:ahLst/>
            <a:rect l="l" t="t" r="r" b="b"/>
            <a:pathLst>
              <a:path w="1248" h="2880">
                <a:moveTo>
                  <a:pt x="0" y="0"/>
                </a:moveTo>
                <a:lnTo>
                  <a:pt x="1248" y="0"/>
                </a:lnTo>
                <a:lnTo>
                  <a:pt x="1248" y="28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00920" y="447660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88" y="0"/>
                </a:moveTo>
                <a:lnTo>
                  <a:pt x="0" y="96"/>
                </a:lnTo>
                <a:lnTo>
                  <a:pt x="288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665600" y="1391760"/>
            <a:ext cx="1077840" cy="82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984320"/>
            <a:ext cx="53640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20840" y="39387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33920" y="533520"/>
            <a:ext cx="1904760" cy="304560"/>
            <a:chOff x="3733920" y="533520"/>
            <a:chExt cx="1904760" cy="304560"/>
          </a:xfrm>
        </p:grpSpPr>
        <p:sp>
          <p:nvSpPr>
            <p:cNvPr id="54" name=""/>
            <p:cNvSpPr/>
            <p:nvPr/>
          </p:nvSpPr>
          <p:spPr>
            <a:xfrm flipH="1">
              <a:off x="3733920" y="533520"/>
              <a:ext cx="761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33520"/>
              <a:ext cx="761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733920" y="914040"/>
            <a:ext cx="1904760" cy="304920"/>
            <a:chOff x="3733920" y="914040"/>
            <a:chExt cx="1904760" cy="304920"/>
          </a:xfrm>
        </p:grpSpPr>
        <p:sp>
          <p:nvSpPr>
            <p:cNvPr id="57" name=""/>
            <p:cNvSpPr/>
            <p:nvPr/>
          </p:nvSpPr>
          <p:spPr>
            <a:xfrm flipH="1" flipV="1">
              <a:off x="3733920" y="914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876920" y="914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H="1" flipV="1">
            <a:off x="2209680" y="254808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905360" y="2205000"/>
            <a:ext cx="1039680" cy="19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89400" y="3335400"/>
            <a:ext cx="147600" cy="272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8080" y="1596960"/>
            <a:ext cx="106056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2080" y="1595520"/>
            <a:ext cx="86832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76520" y="2193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761000" y="2254320"/>
            <a:ext cx="1068480" cy="55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27760" y="18223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67040" y="4190760"/>
            <a:ext cx="3076560" cy="1066680"/>
            <a:chOff x="2867040" y="4190760"/>
            <a:chExt cx="3076560" cy="1066680"/>
          </a:xfrm>
        </p:grpSpPr>
        <p:sp>
          <p:nvSpPr>
            <p:cNvPr id="68" name=""/>
            <p:cNvSpPr/>
            <p:nvPr/>
          </p:nvSpPr>
          <p:spPr>
            <a:xfrm>
              <a:off x="2867040" y="4246920"/>
              <a:ext cx="3076560" cy="10105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lnTo>
                    <a:pt x="0" y="864"/>
                  </a:lnTo>
                  <a:lnTo>
                    <a:pt x="1920" y="864"/>
                  </a:lnTo>
                  <a:lnTo>
                    <a:pt x="192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971880" y="41907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2052720" y="4274640"/>
            <a:ext cx="5968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27400" y="2812680"/>
            <a:ext cx="1246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78400" y="3973680"/>
            <a:ext cx="7164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86320" y="1365120"/>
            <a:ext cx="1177920" cy="81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34240" y="2235240"/>
            <a:ext cx="0" cy="253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53000" y="1600200"/>
            <a:ext cx="714600" cy="26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OLIG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5040" y="4233960"/>
            <a:ext cx="5158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84080" y="4305240"/>
            <a:ext cx="42732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35160" y="4498920"/>
            <a:ext cx="87480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738680" y="2936880"/>
            <a:ext cx="1101600" cy="12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03760" y="1362240"/>
            <a:ext cx="1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08480" y="2949480"/>
            <a:ext cx="12333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994200" y="2936520"/>
            <a:ext cx="7095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03400" y="2936520"/>
            <a:ext cx="157320" cy="13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4320" y="42321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29000" y="2671920"/>
            <a:ext cx="701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1800" y="5754600"/>
            <a:ext cx="895320" cy="289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RKERCROSSR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6160" y="4087800"/>
            <a:ext cx="69984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70640" y="2109960"/>
            <a:ext cx="7174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3160" y="2109960"/>
            <a:ext cx="7509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17960" y="4665600"/>
            <a:ext cx="72072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26080" y="4089240"/>
            <a:ext cx="609480" cy="287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4486320"/>
            <a:ext cx="64800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396040"/>
            <a:ext cx="8650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NNOTATION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es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eReg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RepeatSeqs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eq Qual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Duplications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NPs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FunclPredict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7400" y="5122800"/>
            <a:ext cx="72072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OTYPED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2901960"/>
            <a:ext cx="5828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59080" y="1176480"/>
            <a:ext cx="1079640" cy="2872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30560" y="6072120"/>
            <a:ext cx="1055520" cy="289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CROSSR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724280"/>
            <a:ext cx="865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OORDINATE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es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Ban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64160" y="5764320"/>
            <a:ext cx="66528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ROSSR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11560" y="49528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560" y="4956120"/>
            <a:ext cx="58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otyp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5720" y="2899080"/>
            <a:ext cx="792360" cy="766440"/>
            <a:chOff x="4725720" y="2899080"/>
            <a:chExt cx="792360" cy="766440"/>
          </a:xfrm>
        </p:grpSpPr>
        <p:sp>
          <p:nvSpPr>
            <p:cNvPr id="103" name=""/>
            <p:cNvSpPr/>
            <p:nvPr/>
          </p:nvSpPr>
          <p:spPr>
            <a:xfrm rot="2796600">
              <a:off x="4783320" y="294372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796600">
              <a:off x="4759200" y="321120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GenotypecomboI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5052600">
            <a:off x="4639320" y="29944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052600">
            <a:off x="4509360" y="3322440"/>
            <a:ext cx="653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Mark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140360" y="2951640"/>
            <a:ext cx="595080" cy="740160"/>
            <a:chOff x="4140360" y="2951640"/>
            <a:chExt cx="595080" cy="740160"/>
          </a:xfrm>
        </p:grpSpPr>
        <p:sp>
          <p:nvSpPr>
            <p:cNvPr id="108" name=""/>
            <p:cNvSpPr/>
            <p:nvPr/>
          </p:nvSpPr>
          <p:spPr>
            <a:xfrm rot="17951400">
              <a:off x="4446000" y="298728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7951400">
              <a:off x="4048920" y="3260160"/>
              <a:ext cx="67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AllelecomboI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95760" y="2886120"/>
            <a:ext cx="900360" cy="666720"/>
            <a:chOff x="3695760" y="2886120"/>
            <a:chExt cx="900360" cy="666720"/>
          </a:xfrm>
        </p:grpSpPr>
        <p:sp>
          <p:nvSpPr>
            <p:cNvPr id="111" name=""/>
            <p:cNvSpPr/>
            <p:nvPr/>
          </p:nvSpPr>
          <p:spPr>
            <a:xfrm rot="19521000">
              <a:off x="4307040" y="292968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521000">
              <a:off x="3674520" y="3147120"/>
              <a:ext cx="83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HaplotypecomboI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901840" y="39211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0920" y="3924360"/>
            <a:ext cx="46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5640" y="27590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4800" y="2732040"/>
            <a:ext cx="46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08920" y="3160800"/>
            <a:ext cx="69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Mark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7840" y="31273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8320" y="24987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70320" y="2505240"/>
            <a:ext cx="669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amplese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2120" y="2784600"/>
            <a:ext cx="669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se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41360" y="45370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33400" y="4456080"/>
            <a:ext cx="950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Haplotyp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73000" y="45403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2440" y="4459320"/>
            <a:ext cx="642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AlleleI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82640" y="58928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2160" y="5908680"/>
            <a:ext cx="758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Haplotyp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5880" y="55800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68440" y="5586480"/>
            <a:ext cx="51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878120"/>
            <a:ext cx="27144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7400" y="1951200"/>
            <a:ext cx="2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862280"/>
            <a:ext cx="90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0680" y="2009880"/>
            <a:ext cx="2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8400" y="1914480"/>
            <a:ext cx="90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11400" y="55627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41520" y="5572080"/>
            <a:ext cx="653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Mark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8200" y="41990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5120" y="4314960"/>
            <a:ext cx="653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Mark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2720" y="50846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9080" y="5257800"/>
            <a:ext cx="7797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HaplotypeID/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Allel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2280" y="254952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0040" y="25052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35680" y="2511360"/>
            <a:ext cx="64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Experimen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09680" y="2203200"/>
            <a:ext cx="109872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05000" y="2079720"/>
            <a:ext cx="71928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AMPLES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05000" y="2657520"/>
            <a:ext cx="719280" cy="2887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S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090880"/>
            <a:ext cx="1068120" cy="8524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PHENOTYPE:</a:t>
            </a:r>
            <a:br>
              <a:rPr sz="700"/>
            </a:b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General, Specific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Normal range,</a:t>
            </a:r>
            <a:br>
              <a:rPr sz="700"/>
            </a:b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Assessment, Keywords,</a:t>
            </a:r>
            <a:br>
              <a:rPr sz="700"/>
            </a:br>
            <a:r>
              <a:rPr b="0" lang="sv-SE" sz="700" spc="-1" strike="noStrike">
                <a:solidFill>
                  <a:srgbClr val="000000"/>
                </a:solidFill>
                <a:latin typeface="Arial"/>
              </a:rPr>
              <a:t>Citations, Hierarch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50800" y="26654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2440" y="2646360"/>
            <a:ext cx="46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87800" y="18288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69520" y="1851120"/>
            <a:ext cx="46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ssay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2057400"/>
            <a:ext cx="23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4400" y="1461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8680" y="1949400"/>
            <a:ext cx="858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599480" y="4648320"/>
            <a:ext cx="793800" cy="258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S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36400" y="42559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86680" y="4211640"/>
            <a:ext cx="703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se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70200" y="1390680"/>
            <a:ext cx="971280" cy="2588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AMPLESETOVERLA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0960" y="16286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5120" y="1650960"/>
            <a:ext cx="61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amplese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902680" y="1390680"/>
            <a:ext cx="971640" cy="25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EXPERIMENTOVERLA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74640" y="16286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2320" y="1631880"/>
            <a:ext cx="64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Experiment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65720" y="3622680"/>
            <a:ext cx="5745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OTYPE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OMB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97360" y="3622680"/>
            <a:ext cx="5745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LLELE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OMB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152880" y="3613320"/>
            <a:ext cx="574560" cy="360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HAPLOTYPE</a:t>
            </a:r>
            <a:br>
              <a:rPr sz="600"/>
            </a:b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OMB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55680" y="38577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9600" y="3843360"/>
            <a:ext cx="758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Haplotyp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7800" y="3919680"/>
            <a:ext cx="621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AlleleI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25720" y="39099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38640" y="3951360"/>
            <a:ext cx="58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Genotype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7720" y="24033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6640" y="2430360"/>
            <a:ext cx="669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Observ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38960" y="5762520"/>
            <a:ext cx="965160" cy="287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CROSSR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53200" y="3522600"/>
            <a:ext cx="1290600" cy="287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CIT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48160" y="5748480"/>
            <a:ext cx="54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rossref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38360" y="57229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9640" y="5977080"/>
            <a:ext cx="54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rossref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78400" y="58737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9120" y="37782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65200" y="3795840"/>
            <a:ext cx="51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9120" y="33526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60880" y="3352680"/>
            <a:ext cx="84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38720" y="2836800"/>
            <a:ext cx="1347840" cy="287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CROSSRE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38760" y="30924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73760" y="3110040"/>
            <a:ext cx="54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rossref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38760" y="26668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70520" y="2666880"/>
            <a:ext cx="84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5640" y="380880"/>
            <a:ext cx="84924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3800" y="728640"/>
            <a:ext cx="76176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95760" y="728640"/>
            <a:ext cx="76212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UBM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25840" y="8380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27280" y="990720"/>
            <a:ext cx="84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8840" y="8380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6120" y="990720"/>
            <a:ext cx="84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StudySubmiss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8840" y="7113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40520" y="587520"/>
            <a:ext cx="653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Research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5840" y="7113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6560" y="587520"/>
            <a:ext cx="653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Researcher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93960" y="4087800"/>
            <a:ext cx="50508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0440" y="4087800"/>
            <a:ext cx="50508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8680" y="4665600"/>
            <a:ext cx="744480" cy="287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MARKERCOOR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3200" y="44956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4505400"/>
            <a:ext cx="696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AutoMarkerI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68280" y="6292800"/>
            <a:ext cx="54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rossref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27040" y="61898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41360" y="2997360"/>
            <a:ext cx="1366920" cy="647640"/>
          </a:xfrm>
          <a:custGeom>
            <a:avLst/>
            <a:gdLst/>
            <a:ahLst/>
            <a:rect l="l" t="t" r="r" b="b"/>
            <a:pathLst>
              <a:path w="861" h="408">
                <a:moveTo>
                  <a:pt x="725" y="0"/>
                </a:moveTo>
                <a:lnTo>
                  <a:pt x="0" y="0"/>
                </a:lnTo>
                <a:lnTo>
                  <a:pt x="0" y="408"/>
                </a:lnTo>
                <a:lnTo>
                  <a:pt x="861" y="4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62120" y="2997360"/>
            <a:ext cx="498240" cy="647640"/>
          </a:xfrm>
          <a:custGeom>
            <a:avLst/>
            <a:gdLst/>
            <a:ahLst/>
            <a:rect l="l" t="t" r="r" b="b"/>
            <a:pathLst>
              <a:path w="861" h="408">
                <a:moveTo>
                  <a:pt x="725" y="0"/>
                </a:moveTo>
                <a:lnTo>
                  <a:pt x="0" y="0"/>
                </a:lnTo>
                <a:lnTo>
                  <a:pt x="0" y="408"/>
                </a:lnTo>
                <a:lnTo>
                  <a:pt x="861" y="4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854360"/>
            <a:ext cx="1366920" cy="647640"/>
          </a:xfrm>
          <a:custGeom>
            <a:avLst/>
            <a:gdLst/>
            <a:ahLst/>
            <a:rect l="l" t="t" r="r" b="b"/>
            <a:pathLst>
              <a:path w="861" h="408">
                <a:moveTo>
                  <a:pt x="725" y="0"/>
                </a:moveTo>
                <a:lnTo>
                  <a:pt x="0" y="0"/>
                </a:lnTo>
                <a:lnTo>
                  <a:pt x="0" y="408"/>
                </a:lnTo>
                <a:lnTo>
                  <a:pt x="861" y="4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92840" y="25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92520" y="1557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160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56160" y="41479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024160" y="414792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3100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6080" y="1628640"/>
            <a:ext cx="1222200" cy="8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81600" y="1557360"/>
            <a:ext cx="320508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30520" y="1484280"/>
            <a:ext cx="986040" cy="1536840"/>
          </a:xfrm>
          <a:custGeom>
            <a:avLst/>
            <a:gdLst/>
            <a:ahLst/>
            <a:rect l="l" t="t" r="r" b="b"/>
            <a:pathLst>
              <a:path w="408" h="907">
                <a:moveTo>
                  <a:pt x="0" y="182"/>
                </a:moveTo>
                <a:lnTo>
                  <a:pt x="408" y="0"/>
                </a:lnTo>
                <a:lnTo>
                  <a:pt x="0" y="9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48160" y="2491560"/>
            <a:ext cx="960480" cy="1513080"/>
          </a:xfrm>
          <a:custGeom>
            <a:avLst/>
            <a:gdLst/>
            <a:ahLst/>
            <a:rect l="l" t="t" r="r" b="b"/>
            <a:pathLst>
              <a:path w="408" h="907">
                <a:moveTo>
                  <a:pt x="0" y="182"/>
                </a:moveTo>
                <a:lnTo>
                  <a:pt x="408" y="0"/>
                </a:lnTo>
                <a:lnTo>
                  <a:pt x="0" y="9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90800" y="2852640"/>
            <a:ext cx="1655640" cy="936720"/>
            <a:chOff x="1990800" y="2852640"/>
            <a:chExt cx="1655640" cy="936720"/>
          </a:xfrm>
        </p:grpSpPr>
        <p:sp>
          <p:nvSpPr>
            <p:cNvPr id="221" name=""/>
            <p:cNvSpPr/>
            <p:nvPr/>
          </p:nvSpPr>
          <p:spPr>
            <a:xfrm>
              <a:off x="1990800" y="3502080"/>
              <a:ext cx="1655640" cy="2872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PHENOTYPESPECIFICCI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800" y="2852640"/>
              <a:ext cx="1655640" cy="2872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PHENOTYPEGENERALCIT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733920" y="3894120"/>
            <a:ext cx="165564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PHENOTYPESPECI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341360"/>
            <a:ext cx="165564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PHENOTYPEGENER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0800" y="1711440"/>
            <a:ext cx="1655640" cy="934920"/>
            <a:chOff x="1990800" y="1711440"/>
            <a:chExt cx="1655640" cy="934920"/>
          </a:xfrm>
        </p:grpSpPr>
        <p:sp>
          <p:nvSpPr>
            <p:cNvPr id="226" name=""/>
            <p:cNvSpPr/>
            <p:nvPr/>
          </p:nvSpPr>
          <p:spPr>
            <a:xfrm>
              <a:off x="1990800" y="2359080"/>
              <a:ext cx="1655640" cy="2872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PHENOTYPESPECIFICKEYWOR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90800" y="1711440"/>
              <a:ext cx="1655640" cy="2872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PHENOTYPEGENERALKEYWOR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029200" y="2854440"/>
            <a:ext cx="165564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2351160"/>
            <a:ext cx="165564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PHENOTYPECATEGO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720880" y="4508640"/>
            <a:ext cx="3816360" cy="791640"/>
            <a:chOff x="2720880" y="4508640"/>
            <a:chExt cx="3816360" cy="791640"/>
          </a:xfrm>
        </p:grpSpPr>
        <p:sp>
          <p:nvSpPr>
            <p:cNvPr id="231" name=""/>
            <p:cNvSpPr/>
            <p:nvPr/>
          </p:nvSpPr>
          <p:spPr>
            <a:xfrm>
              <a:off x="5709960" y="472572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20880" y="4508640"/>
              <a:ext cx="1655640" cy="2869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POSSIBLE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81240" y="4508640"/>
              <a:ext cx="1656000" cy="2869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OBSERV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81240" y="5013000"/>
              <a:ext cx="1656000" cy="2872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902280" y="2851200"/>
            <a:ext cx="165600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DISEASEAR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02280" y="2347920"/>
            <a:ext cx="165600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PHENOTYPEDISEASEARE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4320" y="2035080"/>
            <a:ext cx="944640" cy="287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4320" y="3176640"/>
            <a:ext cx="944640" cy="287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26320" y="4508640"/>
            <a:ext cx="1655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SAMPLESET / ASSAYS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28800" y="37162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31400" y="3719520"/>
            <a:ext cx="89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General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1240" y="16286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59760" y="1560600"/>
            <a:ext cx="89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General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00760" y="25923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68800" y="2637000"/>
            <a:ext cx="69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DiseaseArea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7840" y="21607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60440" y="2163600"/>
            <a:ext cx="89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General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22640" y="25938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99320" y="2638440"/>
            <a:ext cx="567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ategory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33320" y="27734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9760" y="2711520"/>
            <a:ext cx="89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General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63720" y="2622600"/>
            <a:ext cx="88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Specific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41240" y="252108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1240" y="367344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95400" y="3749760"/>
            <a:ext cx="88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Specific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1600" y="43657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81160" y="4324320"/>
            <a:ext cx="88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Specific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21080" y="43657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08280" y="4324320"/>
            <a:ext cx="88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Specific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2720" y="48420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46680" y="4842000"/>
            <a:ext cx="669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Observ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41560" y="21510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44160" y="2154240"/>
            <a:ext cx="89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PhenotypeGeneral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5200" y="28368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58000" y="2836800"/>
            <a:ext cx="51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25200" y="36003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58000" y="3629160"/>
            <a:ext cx="51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Citation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9880" y="170172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701720"/>
            <a:ext cx="55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Keyword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24480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32440" y="2476440"/>
            <a:ext cx="55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</a:rPr>
              <a:t>Keyword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5:25:19Z</dcterms:created>
  <dc:creator>antbro2</dc:creator>
  <dc:description/>
  <dc:language>en-US</dc:language>
  <cp:lastModifiedBy>Computer Centre</cp:lastModifiedBy>
  <dcterms:modified xsi:type="dcterms:W3CDTF">2005-11-02T19:24:40Z</dcterms:modified>
  <cp:revision>302</cp:revision>
  <dc:subject/>
  <dc:title>Slide 1</dc:title>
</cp:coreProperties>
</file>