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49F-160D-403F-AA5C-B81AEAF5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1A4-6FF3-4276-9396-F0956152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F7E-9B19-4492-ADA7-FB827DFC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446-6431-48CB-8CD3-670E5943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AE7-6797-4EA2-8858-7755E39A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115-00ED-48C8-9852-DFF15434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689-FC5D-4E96-82DC-6777405D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A5B-4FB4-44FB-8901-308738F3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DF2-3E27-46B8-90A3-FA68E7F0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675-00C3-4742-9B76-E6E9EA3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F65-5302-4284-8221-E6BD955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916-B6D2-43B4-9579-EFDEF961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89CE-3F2F-408F-BA40-C901424E4C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GVbaseG2P Genotype and Allele represent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b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ok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8th Jan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ertion/Deletion Polymorphism (in-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insertion of one or more nucleotides in one version of a sequence relativ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molecular event that gave rise to this observation cannot be determined from the alleles alone (i.e. was it an insertion or a dele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oth insertions and deletions are therefore in this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bSNP  deletion of an allele uses “-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GVbaseG2P uses “_” to avoid confusion that “-“ is interpreted as a numeric operation.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ample allele represen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bSNP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GVbaseG2P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_)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)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xample qualitativ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notype represen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mozygote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[(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Arial"/>
              </a:rPr>
              <a:t>_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)]</a:t>
            </a:r>
            <a:r>
              <a:rPr b="0" lang="fr-FR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mozygote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[(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Arial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)]</a:t>
            </a:r>
            <a:r>
              <a:rPr b="0" lang="fr-FR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terozygote: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[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_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+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]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rosatellite or Short Tandem Repeat (S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leles consist of a repeated sequence motif and the number of tandem copies of this mo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ample_1 allele repres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bSN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AGATCATGCTGGAGCTTCTGGTGGG)28/41/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GVbaseG2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912"/>
                </a:solidFill>
                <a:latin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(TAGATCATGCTGGAGCTTCTGGTGGG)28)</a:t>
            </a:r>
            <a:r>
              <a:rPr b="0" lang="en-GB" sz="2000" spc="-1" strike="noStrike">
                <a:solidFill>
                  <a:srgbClr val="ff0912"/>
                </a:solidFill>
                <a:latin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912"/>
                </a:solidFill>
                <a:latin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(TAGATCATGCTGGAGCTTCTGGTGGG)41)</a:t>
            </a:r>
            <a:r>
              <a:rPr b="0" lang="en-GB" sz="2000" spc="-1" strike="noStrike">
                <a:solidFill>
                  <a:srgbClr val="ff0912"/>
                </a:solidFill>
                <a:latin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912"/>
                </a:solidFill>
                <a:latin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(TAGATCATGCTGGAGCTTCTGGTGGG)49)</a:t>
            </a:r>
            <a:r>
              <a:rPr b="0" lang="en-GB" sz="2000" spc="-1" strike="noStrike">
                <a:solidFill>
                  <a:srgbClr val="ff0912"/>
                </a:solidFill>
                <a:latin typeface="Arial"/>
              </a:rPr>
              <a:t>nnnnnnnnn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e: the () enclosing brackets around each 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rosatellite or Short Tandem Repeat (S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xample_2 alle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bSNP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(CA)11CGCACA(CG)6(CA)8</a:t>
            </a:r>
            <a:r>
              <a:rPr b="0" lang="fr-FR" sz="2400" spc="-1" strike="noStrike">
                <a:solidFill>
                  <a:srgbClr val="ff0912"/>
                </a:solidFill>
                <a:latin typeface="Arial"/>
                <a:ea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(CA)13CGCACA(CG)6(CA)8</a:t>
            </a:r>
            <a:r>
              <a:rPr b="0" lang="fr-FR" sz="2400" spc="-1" strike="noStrike">
                <a:solidFill>
                  <a:srgbClr val="ff0912"/>
                </a:solidFill>
                <a:latin typeface="Arial"/>
                <a:ea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912"/>
                </a:solidFill>
                <a:latin typeface="Arial"/>
                <a:ea typeface="Arial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(CA)14 CGCACA(CG)6(CA)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HGVbaseG2P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fr-FR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((CA)11  CGCACA(CG)6(CA)8)</a:t>
            </a:r>
            <a:r>
              <a:rPr b="0" lang="fr-FR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br>
              <a:rPr sz="2000"/>
            </a:br>
            <a:r>
              <a:rPr b="0" lang="fr-FR" sz="2000" spc="-1" strike="noStrike">
                <a:solidFill>
                  <a:srgbClr val="ff0912"/>
                </a:solidFill>
                <a:latin typeface="Courier New"/>
              </a:rPr>
              <a:t> nnnnnnnnn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((CA)13  CGCACA(CG)6(CA)8)</a:t>
            </a:r>
            <a:r>
              <a:rPr b="0" lang="fr-FR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((CA)14  CGCACA(CG)6(CA)8)</a:t>
            </a:r>
            <a:r>
              <a:rPr b="0" lang="fr-FR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rosatellite or Short Tandem Repeat (S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_3 allele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nnnnnnnnn((“Alu”)2)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quence of the short interspersed nuclear element (SINE) Alu is repeated 2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note the “” around the text based sequence 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9560" y="18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xed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ers that are comprised of alleles of different variation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xample_1 allele represen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bSNP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/G/T/TG/TTTTTTTG/TTTTTTTTTTTTT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HGVbaseG2P: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nnnnnnn(_)nnnnnnnnn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nnnnnnn(G)nnnnnnnnn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nnnnnnn(T)nnnnnnnnn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nnnnnnn(TG)nnnnnnnnn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nnnnnnn((T)7G))nnnnnnnnn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nnnnnnn((T)14G))nnnnnnnnn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‘-’ allele is replaced by ‘_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d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ertion/deletion polymorphisms of longer sequence features, such as ALUs or LINEs which show presence/ab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variations frequently include a deletion "-" indicator for the absent 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ample_1 allele repres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bSN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ARGEDELETION)/-/G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GVbaseG2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nnnnnnnnn(“LARGEDELETION”)nnnnnnnnn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nnnnnnnnn(_)nnnnnnnnn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nnnnnnnnn(G)nnnnnnnnn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nnnnnnnnn(T)nnnnnnnnn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e: quotation marks added to the text-based alle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‘-’ allele is replaced by ‘_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d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ample_2 allele repres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bSN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[CT]+[CA]+[CT]STR, LENGTH 204)/([CT]+[CA]+[CT]STR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194)/([CT]+[CA]+[CT]STR, LENGTHS 190-2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GVbaseG2P: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nnnnnnnnn(“[CT]+ [CA]+ [CT]STR, LENGTH 204”)nnnnnnnnn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nnnnnnnnn(“[CT]+ [CA]+ [CT]STR,LENGTH194”)nnnnnnnnn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nnnnnnnnn(“[CT]+ [CA]+ [CT]STR,LENGTHS190-208”)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e: quotation marks added to text-based alleles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a formal grammar chec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the completeness of the allele or genotype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 by validating the structure and the content for each specific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integrated into the frequency impor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be converted into a web tool for submi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nomenclatur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allele and g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ed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d L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Rules for All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be represented in the context of 10bp upstream and dow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</a:t>
            </a:r>
            <a:r>
              <a:rPr b="1" lang="en-GB" sz="2400" spc="-1" strike="noStrike">
                <a:solidFill>
                  <a:srgbClr val="ff0912"/>
                </a:solidFill>
                <a:latin typeface="Arial"/>
              </a:rPr>
              <a:t>MUST ALWAY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represented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)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ele sequences can be compressed down with the appropriate nomenclature 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ATTTTTTAAAAAAAA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(A(T)6(A)9)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based Alelles e.g LARGEINSERTION must be enclosed with double quote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“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“LARGEINSERTION”)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Rules for Geno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be represented in the context of 10bp upstream and dow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enotypes </a:t>
            </a:r>
            <a:r>
              <a:rPr b="1" lang="en-GB" sz="2400" spc="-1" strike="noStrike">
                <a:solidFill>
                  <a:srgbClr val="ff0912"/>
                </a:solidFill>
                <a:latin typeface="Arial"/>
                <a:ea typeface="Arial"/>
              </a:rPr>
              <a:t>MUST ALWAY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e delimited wit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’ allele homozyg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[(T)]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 assays  - I.e seen or not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tected alleles are listed with a ‘+’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[(T)+ (G)]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Rules for Geno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 assay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fied with respect to each other when more than one allele i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tected alleles are listed with a ‘+’ and a ratio number in front of the opening curved bracket for each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[2(P) + 1(Q)]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eles P abd Q are measured in ratio of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Rules for Geno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say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eles quantified in absolute terms p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tected alleles are listed with a ‘+’ separator and a quantification number plus ‘x’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mediately after the opening curved bracket for each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[(1xP) + (0.5xQ)]</a:t>
            </a:r>
            <a:r>
              <a:rPr b="0" lang="en-GB" sz="24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 P is 1 copy p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 Q is deleted in 50% of th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gle Nucleotide Polymorphism (S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finition: single base substitutions involving A, T, C, or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allele repres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bSN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GVbaseG2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(G)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(T)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qualita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otype repres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ozygot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[(G)]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ozygot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[(T)]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terozygote:  </a:t>
            </a:r>
            <a:r>
              <a:rPr b="0" lang="en-GB" sz="21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[(G)+(T)]</a:t>
            </a:r>
            <a:r>
              <a:rPr b="0" lang="en-GB" sz="21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Nucleotide Polymorphism (M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finition: variations that are multi-base variations, with all alleles being the sam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allele repres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bSN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CG/T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GVbaseG2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(ACG)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(TTC)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  <a:ea typeface="Arial"/>
              </a:rPr>
              <a:t>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qualitati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otype repres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ozygote:</a:t>
            </a:r>
            <a:r>
              <a:rPr b="0" lang="en-GB" sz="2000" spc="-1" strike="noStrike">
                <a:solidFill>
                  <a:srgbClr val="ff091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[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ACG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)]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mozygot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[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TTC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)]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terozygote: 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[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ACG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)+(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TTC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)]</a:t>
            </a:r>
            <a:r>
              <a:rPr b="0" lang="en-GB" sz="2000" spc="-1" strike="noStrike">
                <a:solidFill>
                  <a:srgbClr val="ff0912"/>
                </a:solidFill>
                <a:latin typeface="Courier New"/>
              </a:rPr>
              <a:t>nnnnnnn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finition: Segments of sequence that are assayed and determined to be invariant in a set of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bSNP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GVbaseG2P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ff0912"/>
                </a:solidFill>
                <a:latin typeface="Arial"/>
              </a:rPr>
              <a:t>nnnnnnnnnn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(“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Arial"/>
              </a:rPr>
              <a:t>NOVARIATION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”)</a:t>
            </a:r>
            <a:r>
              <a:rPr b="0" lang="en-GB" sz="2800" spc="-1" strike="noStrike">
                <a:solidFill>
                  <a:srgbClr val="ff0912"/>
                </a:solidFill>
                <a:latin typeface="Arial"/>
              </a:rPr>
              <a:t>nnnnnnnn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te the Double Quotes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  <a:ea typeface="Arial"/>
              </a:rPr>
              <a:t> 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GVbaseG2P does not include the No Variation class present dbS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0:14:53Z</dcterms:created>
  <dc:creator>Robert Hastings</dc:creator>
  <dc:description/>
  <dc:language>en-US</dc:language>
  <cp:lastModifiedBy>Robert Hastings</cp:lastModifiedBy>
  <dcterms:modified xsi:type="dcterms:W3CDTF">2008-01-23T16:54:40Z</dcterms:modified>
  <cp:revision>25</cp:revision>
  <dc:subject/>
  <dc:title>   HGVbaseG2P Genotype and Allele representations </dc:title>
</cp:coreProperties>
</file>