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98A-2EA1-4E42-8D02-F2A69078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760" y="2846520"/>
            <a:ext cx="65199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760" y="6388920"/>
            <a:ext cx="65199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DA5-3B2A-4A19-A24D-2F32AEF2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760" y="28465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9920" y="28465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760" y="63889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9920" y="63889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EF9-C4DB-4F67-AC71-54788288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760" y="2846520"/>
            <a:ext cx="20991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23400" y="2846520"/>
            <a:ext cx="20991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27680" y="2846520"/>
            <a:ext cx="20991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760" y="6388920"/>
            <a:ext cx="20991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23400" y="6388920"/>
            <a:ext cx="20991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27680" y="6388920"/>
            <a:ext cx="20991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D2B-6A91-45AE-B31D-5D694CA4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760" y="2846520"/>
            <a:ext cx="651996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CB0-6CCF-49F9-8F14-3310AFCD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760" y="2846520"/>
            <a:ext cx="651996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AB4-F36D-4EAA-81E5-9D863D58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760" y="2846520"/>
            <a:ext cx="318168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9920" y="2846520"/>
            <a:ext cx="318168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B7A-3A09-4A55-AD8B-8FD57172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ECE-5703-4521-9A4D-B5107A07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8760" y="569520"/>
            <a:ext cx="651996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EF8-61E3-4A54-949D-B6C89FBA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760" y="28465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9920" y="2846520"/>
            <a:ext cx="318168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760" y="63889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8D7-5C3D-4CB1-86E5-B5C0DF4D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760" y="2846520"/>
            <a:ext cx="318168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9920" y="28465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9920" y="63889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45B-178F-4DE1-9FA3-EEF9A5B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760" y="28465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9920" y="2846520"/>
            <a:ext cx="318168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760" y="6388920"/>
            <a:ext cx="65199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AAE-82F8-40BA-9CE4-0B1F5AB8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8760" y="569520"/>
            <a:ext cx="65199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8760" y="2846520"/>
            <a:ext cx="651996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1120" indent="-141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3720" indent="-141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08120" indent="-141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990720" indent="-141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74760" indent="-141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74760" indent="-141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74760" indent="-141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8760" y="9907200"/>
            <a:ext cx="170172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3080" y="9907200"/>
            <a:ext cx="255132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37000" y="9907200"/>
            <a:ext cx="1702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A71D-8738-463A-9990-4E759BF9759C}" type="slidenum">
              <a:rPr b="0" lang="en-GB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5727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3T15:51:08Z</dcterms:created>
  <dc:creator>Barton, Huw J. (Dr.)</dc:creator>
  <dc:description/>
  <dc:language>en-US</dc:language>
  <cp:lastModifiedBy>Barton, Huw J. (Dr.)</cp:lastModifiedBy>
  <dcterms:modified xsi:type="dcterms:W3CDTF">2016-04-13T15:51:08Z</dcterms:modified>
  <cp:revision>1</cp:revision>
  <dc:subject/>
  <dc:title>PowerPoint Presentation</dc:title>
</cp:coreProperties>
</file>